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0.png" ContentType="image/png"/>
  <Override PartName="/ppt/media/image36.jpeg" ContentType="image/jpeg"/>
  <Override PartName="/ppt/media/image21.png" ContentType="image/png"/>
  <Override PartName="/ppt/media/image19.png" ContentType="image/png"/>
  <Override PartName="/ppt/media/image23.png" ContentType="image/png"/>
  <Override PartName="/ppt/media/image18.gif" ContentType="image/gif"/>
  <Override PartName="/ppt/media/image22.png" ContentType="image/png"/>
  <Override PartName="/ppt/media/image17.gif" ContentType="image/gif"/>
  <Override PartName="/ppt/media/image50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26.png" ContentType="image/png"/>
  <Override PartName="/ppt/media/image3.png" ContentType="image/png"/>
  <Override PartName="/ppt/media/image13.png" ContentType="image/png"/>
  <Override PartName="/ppt/media/image32.wmf" ContentType="image/x-wmf"/>
  <Override PartName="/ppt/media/image38.jpeg" ContentType="image/jpeg"/>
  <Override PartName="/ppt/media/image40.jpeg" ContentType="image/jpeg"/>
  <Override PartName="/ppt/media/image9.png" ContentType="image/png"/>
  <Override PartName="/ppt/media/image41.jpeg" ContentType="image/jpeg"/>
  <Override PartName="/ppt/media/image43.jpeg" ContentType="image/jpeg"/>
  <Override PartName="/ppt/media/image44.jpeg" ContentType="image/jpeg"/>
  <Override PartName="/ppt/media/image45.png" ContentType="image/png"/>
  <Override PartName="/ppt/media/image35.jpeg" ContentType="image/jpeg"/>
  <Override PartName="/ppt/media/image47.png" ContentType="image/png"/>
  <Override PartName="/ppt/media/image10.png" ContentType="image/png"/>
  <Override PartName="/ppt/media/image30.png" ContentType="image/png"/>
  <Override PartName="/ppt/media/image37.jpeg" ContentType="image/jpeg"/>
  <Override PartName="/ppt/media/image28.wmf" ContentType="image/x-wmf"/>
  <Override PartName="/ppt/media/image46.png" ContentType="image/png"/>
  <Override PartName="/ppt/media/image48.png" ContentType="image/png"/>
  <Override PartName="/ppt/media/image11.png" ContentType="image/png"/>
  <Override PartName="/ppt/media/image39.jpeg" ContentType="image/jpeg"/>
  <Override PartName="/ppt/media/image8.png" ContentType="image/png"/>
  <Override PartName="/ppt/media/image12.png" ContentType="image/png"/>
  <Override PartName="/ppt/media/image49.png" ContentType="image/png"/>
  <Override PartName="/ppt/media/image25.png" ContentType="image/png"/>
  <Override PartName="/ppt/media/image42.jpeg" ContentType="image/jpeg"/>
  <Override PartName="/ppt/media/image34.jpeg" ContentType="image/jpeg"/>
  <Override PartName="/ppt/media/image7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1068-5502-4E61-B854-124250BB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67A4-9D9F-4E46-9930-83CCA9A4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D318-6243-485B-891F-D0F3439E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6050-CA3E-4EDA-A7D0-E7299B13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5A8A-B00F-4478-9CB5-129070B2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01BA-39A5-41B8-8BFC-FBB32001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E4D5-E54B-413E-8048-F67D095D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3C6B-84D0-4FDE-9F2D-ED2DB93D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ADC0-DB67-4CD7-BB29-9D7F8FB1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0E66-7A8B-4098-B0CF-DB570D44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503D-7A2A-42C2-B751-89C06E81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91FE-3990-4581-A468-7D8AD594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0BFB-DB20-4FD0-A430-C6427105D7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mailto:lims@bashnxa.ru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4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image" Target="../media/image6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3860280"/>
            <a:ext cx="583272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Лабораторная информационн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60640" y="4076280"/>
            <a:ext cx="37432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Линте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619280" y="1163520"/>
            <a:ext cx="6265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Автоматизация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производственных лаборатор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-681120" y="2924280"/>
            <a:ext cx="68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9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9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900"/>
                            </p:stCondLst>
                            <p:childTnLst>
                              <p:par>
                                <p:cTn id="22" nodeType="after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05 -0.06041 C -0.00799 -0.06851 0.04132 -0.07638 0.05816 -0.07638 C 0.16753 -0.07638 0.27968 0.04862 0.27968 0.17362 C 0.27968 0.11065 0.33593 0.04862 0.38906 0.04862 C 0.44514 0.04862 0.49826 0.11158 0.49826 0.17362 C 0.49826 0.1426 0.52621 0.11065 0.55434 0.11065 C 0.58246 0.11065 0.61041 0.14167 0.61041 0.17362 C 0.61041 0.15764 0.62465 0.1426 0.63837 0.1426 C 0.6526 0.1426 0.66666 0.15857 0.66666 0.17362 C 0.66666 0.16551 0.67396 0.15764 0.68055 0.15764 C 0.68437 0.15764 0.69479 0.16575 0.69479 0.17362 C 0.69479 0.16968 0.69843 0.16551 0.70208 0.16551 C 0.70208 0.16644 0.70937 0.16945 0.70937 0.17362 C 0.70937 0.17153 0.70937 0.16968 0.71302 0.16968 C 0.71302 0.17061 0.71666 0.17176 0.71666 0.17362 C 0.71666 0.17269 0.71666 0.17153 0.71666 0.17061 C 0.72031 0.17061 0.72031 0.17153 0.72031 0.17269 C 0.72396 0.17269 0.72396 0.17176 0.72396 0.17061 C 0.72778 0.17061 0.72778 0.17153 0.72778 0.17269 E">
                                      <p:cBhvr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тел ПН – 20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4175280" y="2394000"/>
            <a:ext cx="4968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парат обеспечивает автоматическое выполнение следующих функц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ъем стола пенетрометра в двух режимах (быстро и медленно) по нажатию клавиш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момента касания иглой битум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величины пенетрации с точностью ±0,05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ображение информации о ходе и результатах испытания на жидкокристаллическом 4-х строчном диспле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новка процесса испытания по окончании анализа со звуковой сигнализаци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08000" y="213372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нетромет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нефтепродуктов(битум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ПН-20wh копия"/>
          <p:cNvPicPr/>
          <p:nvPr/>
        </p:nvPicPr>
        <p:blipFill>
          <a:blip r:embed="rId1"/>
          <a:stretch/>
        </p:blipFill>
        <p:spPr>
          <a:xfrm>
            <a:off x="468360" y="2997360"/>
            <a:ext cx="2698560" cy="35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тел АТХ-2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492360" y="2060640"/>
            <a:ext cx="565164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ппарат обеспечивает выполнение следующих функций: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автоматическая деформация пластины      с образцом по заданной программе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автоматическое программное понижение температуры образца с заданной скоростью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автоматическая фиксация и запоминание температуры хрупкости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автоматическая остановка процесса испытания по окончании анализа со звуковой сигнализацией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запоминание, возможность просмотра и печати через последовательный порт RS-232 до 100 результатов испыт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АТХ-20 новый"/>
          <p:cNvPicPr/>
          <p:nvPr/>
        </p:nvPicPr>
        <p:blipFill>
          <a:blip r:embed="rId1"/>
          <a:stretch/>
        </p:blipFill>
        <p:spPr>
          <a:xfrm>
            <a:off x="539640" y="3573360"/>
            <a:ext cx="2738520" cy="28782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095480" y="27068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0" y="2060640"/>
            <a:ext cx="385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парат автоматический для опреде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ературы хрупкости нефтебитум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тел УПП-1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211640" y="2060640"/>
            <a:ext cx="4608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ройство для подготовки проб предназначено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ля расплавления навески битума на стандартной металлической пластин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хлаждения её на горизонтально расположенном столик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ля работы в комплекте с аппаратами определения температуры хрупкости битума АТХ-20, АТХ-90, ФРААС-1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upp копия"/>
          <p:cNvPicPr/>
          <p:nvPr/>
        </p:nvPicPr>
        <p:blipFill>
          <a:blip r:embed="rId1"/>
          <a:stretch/>
        </p:blipFill>
        <p:spPr>
          <a:xfrm>
            <a:off x="179280" y="3860640"/>
            <a:ext cx="3888000" cy="24526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110160" y="2781360"/>
            <a:ext cx="412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ройство для подготовки про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тел КИШ-2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780000" y="1628640"/>
            <a:ext cx="507672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ппарат обеспечивает выполнение следующих функций:</a:t>
            </a:r>
            <a:br>
              <a:rPr sz="1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автоматическая фиксация и запоминание температуры размягчения 2-х образцов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автоматический программный нагрев образца с заданной скоростью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автоматическая остановка процесса испытания по окончании анализа со звуковой сигнализацией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отображение информации на жидкокристаллическом 4-х строчном дисплее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запоминание, возможность просмотра и печати через последовательный порт RS-232 до 300 результатов испыт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КИШ-20"/>
          <p:cNvPicPr/>
          <p:nvPr/>
        </p:nvPicPr>
        <p:blipFill>
          <a:blip r:embed="rId1"/>
          <a:stretch/>
        </p:blipFill>
        <p:spPr>
          <a:xfrm>
            <a:off x="179280" y="4005360"/>
            <a:ext cx="3529080" cy="2646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179280" y="1989000"/>
            <a:ext cx="463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ппарат автоматиче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пературы размяг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фтебиту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тел КИШ-20М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780000" y="1628640"/>
            <a:ext cx="507672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ппарат обеспечивает выполнение следующих функций:</a:t>
            </a:r>
            <a:br>
              <a:rPr sz="1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автоматическая фиксация и запоминание температуры размягчения 4-х образцов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автоматический программный нагрев образца с заданной скоростью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автоматическая остановка процесса испытания по окончании анализа со звуковой сигнализацией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отображение информации на жидкокристаллическом 4-х строчном дисплее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запоминание, возможность просмотра и печати через последовательный порт RS-232 до 300 результатов испыт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79280" y="1989000"/>
            <a:ext cx="463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ппарат автоматиче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пературы размяг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фтебиту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КИШ20М4"/>
          <p:cNvPicPr/>
          <p:nvPr/>
        </p:nvPicPr>
        <p:blipFill>
          <a:blip r:embed="rId1"/>
          <a:stretch/>
        </p:blipFill>
        <p:spPr>
          <a:xfrm>
            <a:off x="250920" y="3716280"/>
            <a:ext cx="396072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нтел ВУБ-20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419640" y="2205000"/>
            <a:ext cx="549432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ппарат обеспечивает выполнение следующих функций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матическое поддержание заданной температуры в термостате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автоматическое открытие отверстия истечения при достижении температуры испытания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автоматический отсчёт времени истечения продукт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отображение информации на жидкокристаллическом 4-х строчном диспле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запоминание, возможность просмотра и печати через последовательный порт RS-232 до 400 результатов испытаний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vub копия"/>
          <p:cNvPicPr/>
          <p:nvPr/>
        </p:nvPicPr>
        <p:blipFill>
          <a:blip r:embed="rId1"/>
          <a:stretch/>
        </p:blipFill>
        <p:spPr>
          <a:xfrm>
            <a:off x="179280" y="3068640"/>
            <a:ext cx="3116520" cy="35989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-164160" y="1989000"/>
            <a:ext cx="398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ппарат автоматический д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я услов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язкости битум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интел ДБ-20-150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708360" y="2176560"/>
            <a:ext cx="53294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ппарат обеспечивает выполнение следующих функций: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автоматическое измерение и индикацию температуры теплоносителя в зоне испытаний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автоматическое растяжение одновременно трёх образцов с заданной скорость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автоматическая фиксация и запоминание значений растяжимости и номера пробы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автоматическая остановка процесса растяжения по окончании испытания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длина бани 150 см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перемешивание теплоносителя для обеспечения равномерной температуры в зоне испыт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ДБ-20"/>
          <p:cNvPicPr/>
          <p:nvPr/>
        </p:nvPicPr>
        <p:blipFill>
          <a:blip r:embed="rId1"/>
          <a:stretch/>
        </p:blipFill>
        <p:spPr>
          <a:xfrm>
            <a:off x="179280" y="4221000"/>
            <a:ext cx="3095640" cy="21877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179280" y="2276640"/>
            <a:ext cx="40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парат автоматический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я растяжения нефтяных битум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тел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ТВО-2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175280" y="3143160"/>
            <a:ext cx="475452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АЛИЗУЕТ МЕТОД КЛИВЛЕН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ппарат обеспечивает автоматическое выполнение следующих функц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· программное повышение температуры продукта с заданной скоростью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· испытание  продукта с помощью газового поджиг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· автоматическая фиксация и запоминание температуры вспышк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· остановка процесса испытания по окончании анализа со звуковой сигнализаци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· тушение горящего продукта по окончания анализа с помощью закрытия тигля крыш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438840" y="2143080"/>
            <a:ext cx="565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ппарат автоматический для опре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ы вспышки в открытом тиг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9" descr="АТВО-21.jpg"/>
          <p:cNvPicPr/>
          <p:nvPr/>
        </p:nvPicPr>
        <p:blipFill>
          <a:blip r:embed="rId1"/>
          <a:stretch/>
        </p:blipFill>
        <p:spPr>
          <a:xfrm>
            <a:off x="214200" y="2928960"/>
            <a:ext cx="35528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тел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КС-2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4140360" y="1844640"/>
            <a:ext cx="4824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назначен:</a:t>
            </a:r>
            <a:br>
              <a:rPr sz="2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для точного поддержания заданной температуры в любом оборудовани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для работы в комплекте с аппаратами ДБ-2М, ДБ-150, ДБ-20-150, ПН-10Б, ПН-20Б, АТХ-20, АРНС-20, Кристалл-10Э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ТКС-20whкопирование"/>
          <p:cNvPicPr/>
          <p:nvPr/>
        </p:nvPicPr>
        <p:blipFill>
          <a:blip r:embed="rId1"/>
          <a:stretch/>
        </p:blipFill>
        <p:spPr>
          <a:xfrm>
            <a:off x="250920" y="3141720"/>
            <a:ext cx="2698560" cy="35989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3276720" y="3213000"/>
            <a:ext cx="496872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парат обеспечивает выполнение следующих функций:</a:t>
            </a: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автоматическое поддержание заданной температуры посредством нагрева или охлаждения жидкости-теплоносителя внутри собственной камеры и на внешних объектах термостатирования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имеется возможность задания необходимой точности поддержания температуры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имеется возможность автоматического включения на термостатирование через заданный промежуток времени (от 1 минуты до 100 часов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-111960" y="2133720"/>
            <a:ext cx="34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окриостат жидкост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тел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-20-5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492360" y="1916280"/>
            <a:ext cx="5256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сс обеспечивает автоматическое выполнение следующих функц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ъем нижней плиты с образцом с заданной скор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рение нагрузки и деформации образца во время испы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ие графика нагружения образца во время испытания и передача данных на 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усилия и деформации, при которых произошло разрушение образ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чет дополнительных характеристик(предел прочности, работа на разрушение и т.п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ПА-20-50"/>
          <p:cNvPicPr/>
          <p:nvPr/>
        </p:nvPicPr>
        <p:blipFill>
          <a:blip r:embed="rId1"/>
          <a:stretch/>
        </p:blipFill>
        <p:spPr>
          <a:xfrm>
            <a:off x="468360" y="2349360"/>
            <a:ext cx="2389320" cy="43182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27080" y="1844640"/>
            <a:ext cx="294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сс автоматиче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механ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981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Управление лаборатори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вопрос"/>
          <p:cNvPicPr/>
          <p:nvPr/>
        </p:nvPicPr>
        <p:blipFill>
          <a:blip r:embed="rId2"/>
          <a:stretch/>
        </p:blipFill>
        <p:spPr>
          <a:xfrm>
            <a:off x="0" y="29242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6516720" y="463680"/>
            <a:ext cx="1800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2197080" y="1504800"/>
            <a:ext cx="619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илабораторный контроль кач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195640" y="3160800"/>
            <a:ext cx="694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качества и стабильности результатов анализ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2197080" y="2657520"/>
            <a:ext cx="647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ход от рутинно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и в лабораториях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2195640" y="1936800"/>
            <a:ext cx="619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базы данных по результатам выполненных экспериментов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2195640" y="4557600"/>
            <a:ext cx="619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руководства достоверной, полноценной, своевременной информацией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2195640" y="5292720"/>
            <a:ext cx="619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ное документирование всего процесса проведения исследований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2195640" y="6021360"/>
            <a:ext cx="619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ие требованиям ГОСТ Р ИСО 57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2195640" y="3809880"/>
            <a:ext cx="669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матизированный сбор и обработка результатов лабораторных испыта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0"/>
          <p:cNvSpPr/>
          <p:nvPr/>
        </p:nvSpPr>
        <p:spPr>
          <a:xfrm>
            <a:off x="5869080" y="6356520"/>
            <a:ext cx="32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ужба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8 (347)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84-35-90,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233-02-88,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ms@bashnxa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тел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-20-1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492360" y="1916280"/>
            <a:ext cx="5256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сс обеспечивает автоматическое выполнение следующих функц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ъем нижней плиты с образцом с заданной скор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рение нагрузки и деформации образца во время испы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ие графика нагружения образца во время испытания и передача данных на 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усилия и деформации, при которых произошло разрушение образ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чет дополнительных характеристик(предел прочности, работа на разрушение и т.п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27080" y="1844640"/>
            <a:ext cx="294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сс автоматиче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механ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ПА-20-100 общий фид фото копия"/>
          <p:cNvPicPr/>
          <p:nvPr/>
        </p:nvPicPr>
        <p:blipFill>
          <a:blip r:embed="rId1"/>
          <a:stretch/>
        </p:blipFill>
        <p:spPr>
          <a:xfrm>
            <a:off x="684360" y="2540160"/>
            <a:ext cx="19713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нтел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М – 20-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2987640" y="2133720"/>
            <a:ext cx="57610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назначена для механических испытаний сжатием и растяже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шина обеспечивает автоматическое выполнение следующих функц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мещение траверсы с заданной скорость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рение нагрузки и деформации образца во время испыт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роение графика нагружения образца во время испытания и передача данных на П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ение усилия и деформации, при которых произошло разрушение образц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тановка процесса испытания по окончании анализа со звуковой сигнализаци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ческая передача результатов испытаний по радиоканалу на ПК, расчёт дополнительных параметров и статистическая обработка (если лаборатория оборудована исследовательской системой ЛИНТЕЛ-ЛИС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592200" y="1989000"/>
            <a:ext cx="226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ШИН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Ы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РМ-20 общий вид"/>
          <p:cNvPicPr/>
          <p:nvPr/>
        </p:nvPicPr>
        <p:blipFill>
          <a:blip r:embed="rId1"/>
          <a:stretch/>
        </p:blipFill>
        <p:spPr>
          <a:xfrm>
            <a:off x="539640" y="2997360"/>
            <a:ext cx="17845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Object 8"/>
          <p:cNvGraphicFramePr/>
          <p:nvPr/>
        </p:nvGraphicFramePr>
        <p:xfrm>
          <a:off x="826920" y="1989000"/>
          <a:ext cx="7309080" cy="244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989000"/>
                    <a:ext cx="7309080" cy="24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9"/>
          <p:cNvGraphicFramePr/>
          <p:nvPr/>
        </p:nvGraphicFramePr>
        <p:xfrm>
          <a:off x="1901880" y="1125360"/>
          <a:ext cx="438120" cy="47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1880" y="1125360"/>
                    <a:ext cx="4381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15"/>
          <p:cNvSpPr/>
          <p:nvPr/>
        </p:nvSpPr>
        <p:spPr>
          <a:xfrm>
            <a:off x="1932480" y="1089000"/>
            <a:ext cx="49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правление образц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1908000" y="4581360"/>
            <a:ext cx="5904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Регистрация образц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Назначение программы испытани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Контроль качества и стабильности результатов анализов согласно требованиям ГОСТ Р ИСО 572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5869080" y="6356520"/>
            <a:ext cx="32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ужба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8 (347)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84-35-90,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233-02-88,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ms@bashnxa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8000"/>
                            </p:stCondLst>
                            <p:childTnLst>
                              <p:par>
                                <p:cTn id="4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4"/>
          <p:cNvGraphicFramePr/>
          <p:nvPr/>
        </p:nvGraphicFramePr>
        <p:xfrm>
          <a:off x="1906560" y="1268280"/>
          <a:ext cx="457200" cy="40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6560" y="1268280"/>
                    <a:ext cx="45720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Rectangle 5"/>
          <p:cNvSpPr/>
          <p:nvPr/>
        </p:nvSpPr>
        <p:spPr>
          <a:xfrm>
            <a:off x="1862640" y="1125360"/>
            <a:ext cx="544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правление материа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6"/>
          <p:cNvGraphicFramePr/>
          <p:nvPr/>
        </p:nvGraphicFramePr>
        <p:xfrm>
          <a:off x="826920" y="1989000"/>
          <a:ext cx="7786800" cy="244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1989000"/>
                    <a:ext cx="778680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Rectangle 8"/>
          <p:cNvSpPr/>
          <p:nvPr/>
        </p:nvSpPr>
        <p:spPr>
          <a:xfrm>
            <a:off x="1908000" y="4581360"/>
            <a:ext cx="5904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Единый справочник материал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Ведение складского учета материал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Автоматическое списание расхода материалов при проведении эксперимен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0"/>
          <p:cNvSpPr/>
          <p:nvPr/>
        </p:nvSpPr>
        <p:spPr>
          <a:xfrm>
            <a:off x="5869080" y="6356520"/>
            <a:ext cx="32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ужба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8 (347)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84-35-90,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233-02-88,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ms@bashnxa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4000"/>
                            </p:stCondLst>
                            <p:childTnLst>
                              <p:par>
                                <p:cTn id="4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6000"/>
                            </p:stCondLst>
                            <p:childTnLst>
                              <p:par>
                                <p:cTn id="4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8000"/>
                            </p:stCondLst>
                            <p:childTnLst>
                              <p:par>
                                <p:cTn id="4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Object 4"/>
          <p:cNvGraphicFramePr/>
          <p:nvPr/>
        </p:nvGraphicFramePr>
        <p:xfrm>
          <a:off x="2008080" y="1197000"/>
          <a:ext cx="4762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8080" y="1197000"/>
                    <a:ext cx="4762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5"/>
          <p:cNvSpPr/>
          <p:nvPr/>
        </p:nvSpPr>
        <p:spPr>
          <a:xfrm>
            <a:off x="2288520" y="1197000"/>
            <a:ext cx="31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бору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6"/>
          <p:cNvGraphicFramePr/>
          <p:nvPr/>
        </p:nvGraphicFramePr>
        <p:xfrm>
          <a:off x="817560" y="1989000"/>
          <a:ext cx="7786800" cy="212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5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7560" y="1989000"/>
                    <a:ext cx="7786800" cy="21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8"/>
          <p:cNvSpPr/>
          <p:nvPr/>
        </p:nvSpPr>
        <p:spPr>
          <a:xfrm>
            <a:off x="2124000" y="4365720"/>
            <a:ext cx="64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Ведение графика поверки средств измере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Ведение графика аттестации испытательного оборудован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Единые справочники средств измерений и испытательного оборуд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0"/>
          <p:cNvSpPr/>
          <p:nvPr/>
        </p:nvSpPr>
        <p:spPr>
          <a:xfrm>
            <a:off x="5869080" y="6356520"/>
            <a:ext cx="32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ужба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8 (347)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84-35-90,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233-02-88,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ms@bashnxa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000"/>
                            </p:stCondLst>
                            <p:childTnLst>
                              <p:par>
                                <p:cTn id="5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6000"/>
                            </p:stCondLst>
                            <p:childTnLst>
                              <p:par>
                                <p:cTn id="5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8000"/>
                            </p:stCondLst>
                            <p:childTnLst>
                              <p:par>
                                <p:cTn id="5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Object 4"/>
          <p:cNvGraphicFramePr/>
          <p:nvPr/>
        </p:nvGraphicFramePr>
        <p:xfrm>
          <a:off x="2050920" y="1228680"/>
          <a:ext cx="43812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1228680"/>
                    <a:ext cx="438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Rectangle 5"/>
          <p:cNvSpPr/>
          <p:nvPr/>
        </p:nvSpPr>
        <p:spPr>
          <a:xfrm>
            <a:off x="2700360" y="1193760"/>
            <a:ext cx="59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бщие справочники и отче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Object 6"/>
          <p:cNvGraphicFramePr/>
          <p:nvPr/>
        </p:nvGraphicFramePr>
        <p:xfrm>
          <a:off x="817560" y="1989000"/>
          <a:ext cx="7931160" cy="1949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2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7560" y="1989000"/>
                    <a:ext cx="7931160" cy="19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8"/>
          <p:cNvSpPr/>
          <p:nvPr/>
        </p:nvSpPr>
        <p:spPr>
          <a:xfrm>
            <a:off x="2124000" y="4365720"/>
            <a:ext cx="6480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Система разграничения прав доступа для пользователе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Единая справочная система и система отчет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Паспорта качества, лабораторные журналы, заключения на испытуемый продукт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5869080" y="6356520"/>
            <a:ext cx="32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ужба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8 (347)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84-35-90,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233-02-88,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ms@bashnxa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800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Object 4"/>
          <p:cNvGraphicFramePr/>
          <p:nvPr/>
        </p:nvGraphicFramePr>
        <p:xfrm>
          <a:off x="1587600" y="1154160"/>
          <a:ext cx="476280" cy="44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87600" y="1154160"/>
                    <a:ext cx="4762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5"/>
          <p:cNvSpPr/>
          <p:nvPr/>
        </p:nvSpPr>
        <p:spPr>
          <a:xfrm>
            <a:off x="1221840" y="1119240"/>
            <a:ext cx="85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ормативно – техническая докум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817560" y="1989000"/>
          <a:ext cx="7570800" cy="22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7560" y="1989000"/>
                    <a:ext cx="757080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10"/>
          <p:cNvSpPr/>
          <p:nvPr/>
        </p:nvSpPr>
        <p:spPr>
          <a:xfrm>
            <a:off x="2916360" y="4365720"/>
            <a:ext cx="3024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Библиотека ГОСТ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ГОСТЫ на продукт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ГОСТЫ на мет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0"/>
          <p:cNvSpPr/>
          <p:nvPr/>
        </p:nvSpPr>
        <p:spPr>
          <a:xfrm>
            <a:off x="5869080" y="6356520"/>
            <a:ext cx="32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ужба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8 (347)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84-35-90,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233-02-88,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ms@bashnxa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000"/>
                            </p:stCondLst>
                            <p:childTnLst>
                              <p:par>
                                <p:cTn id="5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000"/>
                            </p:stCondLst>
                            <p:childTnLst>
                              <p:par>
                                <p:cTn id="5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8000"/>
                            </p:stCondLst>
                            <p:childTnLst>
                              <p:par>
                                <p:cTn id="5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39640" y="1119240"/>
            <a:ext cx="4608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бласти применения Линтел Л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63640" y="2060640"/>
            <a:ext cx="712944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Monotype Corsiva"/>
              </a:rPr>
              <a:t>Химическая промышлен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Monotype Corsiva"/>
              </a:rPr>
              <a:t>Авиационная промышлен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Monotype Corsiva"/>
              </a:rPr>
              <a:t>Дорожная отрас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Monotype Corsiva"/>
              </a:rPr>
              <a:t>Предприятия транспортной инфраструкту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Monotype Corsiva"/>
              </a:rPr>
              <a:t>Пищевая промышлен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Monotype Corsiva"/>
              </a:rPr>
              <a:t>Эколог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000"/>
                            </p:stCondLst>
                            <p:childTnLst>
                              <p:par>
                                <p:cTn id="6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6000"/>
                            </p:stCondLst>
                            <p:childTnLst>
                              <p:par>
                                <p:cTn id="6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8000"/>
                            </p:stCondLst>
                            <p:childTnLst>
                              <p:par>
                                <p:cTn id="6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5" descr="результат"/>
          <p:cNvPicPr/>
          <p:nvPr/>
        </p:nvPicPr>
        <p:blipFill>
          <a:blip r:embed="rId2"/>
          <a:stretch/>
        </p:blipFill>
        <p:spPr>
          <a:xfrm>
            <a:off x="179280" y="3141720"/>
            <a:ext cx="2592360" cy="174312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6"/>
          <p:cNvSpPr/>
          <p:nvPr/>
        </p:nvSpPr>
        <p:spPr>
          <a:xfrm>
            <a:off x="5867280" y="463680"/>
            <a:ext cx="29242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иму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203280" y="1773360"/>
            <a:ext cx="58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6600"/>
                </a:solidFill>
                <a:latin typeface="Monotype Corsiva"/>
              </a:rPr>
              <a:t>Повышение достоверности получаемых результатов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6600"/>
                </a:solidFill>
                <a:latin typeface="Monotype Corsiva"/>
              </a:rPr>
              <a:t>Снижение процента потерь и искажений информац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6600"/>
                </a:solidFill>
                <a:latin typeface="Monotype Corsiva"/>
              </a:rPr>
              <a:t>Постоянный контроль исполнения запланированных лабораторных задач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6600"/>
                </a:solidFill>
                <a:latin typeface="Monotype Corsiva"/>
              </a:rPr>
              <a:t>Повышение качества управления персоналом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6600"/>
                </a:solidFill>
                <a:latin typeface="Monotype Corsiva"/>
              </a:rPr>
              <a:t>Увеличение производительности работ лаборатор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1908000" y="981000"/>
            <a:ext cx="583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Внедрение Линтел ЛИ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0"/>
          <p:cNvSpPr/>
          <p:nvPr/>
        </p:nvSpPr>
        <p:spPr>
          <a:xfrm>
            <a:off x="5869080" y="6356520"/>
            <a:ext cx="32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ужба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8 (347)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84-35-90,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233-02-88,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ms@bashnxa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000"/>
                            </p:stCondLst>
                            <p:childTnLst>
                              <p:par>
                                <p:cTn id="6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6000"/>
                            </p:stCondLst>
                            <p:childTnLst>
                              <p:par>
                                <p:cTn id="6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8000"/>
                            </p:stCondLst>
                            <p:childTnLst>
                              <p:par>
                                <p:cTn id="6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190440" y="2151000"/>
            <a:ext cx="961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6600"/>
                </a:solidFill>
                <a:latin typeface="Monotype Corsiva"/>
              </a:rPr>
              <a:t>Спасибо за внимание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1079280" y="4076640"/>
            <a:ext cx="83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Monotype Corsiva"/>
              </a:rPr>
              <a:t>ОАО Башкирское Специальное Конструкторское Бю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3188160" y="4724280"/>
            <a:ext cx="561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Monotype Corsiva"/>
              </a:rPr>
              <a:t>«НефтеХимАвтомати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2050920" y="5632560"/>
            <a:ext cx="684216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Monotype Corsiva"/>
              </a:rPr>
              <a:t>Дополнительную информацию о системе «ЛинтеЛ ЛИС»  Вы можете получи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Monotype Corsiva"/>
              </a:rPr>
              <a:t>отправив запрос на адрес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otype Corsiva"/>
                <a:hlinkClick r:id="rId2"/>
              </a:rPr>
              <a:t>lims@bashnxa.ru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0" lang="ru-RU" sz="1400" spc="-1" strike="noStrike">
                <a:solidFill>
                  <a:srgbClr val="ff6600"/>
                </a:solidFill>
                <a:latin typeface="Monotype Corsiv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Monotype Corsiva"/>
              </a:rPr>
              <a:t>либо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6600"/>
                </a:solidFill>
                <a:latin typeface="Monotype Corsiva"/>
              </a:rPr>
              <a:t>позвонив по телефону </a:t>
            </a:r>
            <a:r>
              <a:rPr b="1" lang="ru-RU" sz="1600" spc="-1" strike="noStrike">
                <a:solidFill>
                  <a:srgbClr val="ff6600"/>
                </a:solidFill>
                <a:latin typeface="Monotype Corsiva"/>
              </a:rPr>
              <a:t>8 (347) </a:t>
            </a:r>
            <a:r>
              <a:rPr b="1" lang="en-US" sz="1600" spc="-1" strike="noStrike">
                <a:solidFill>
                  <a:srgbClr val="ff6600"/>
                </a:solidFill>
                <a:latin typeface="Monotype Corsiva"/>
              </a:rPr>
              <a:t>284-35-90 , </a:t>
            </a:r>
            <a:r>
              <a:rPr b="1" lang="ru-RU" sz="1600" spc="-1" strike="noStrike">
                <a:solidFill>
                  <a:srgbClr val="ff6600"/>
                </a:solidFill>
                <a:latin typeface="Monotype Corsiva"/>
              </a:rPr>
              <a:t>233-02-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63640" y="2492280"/>
            <a:ext cx="34560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Monotype Corsiva"/>
              </a:rPr>
              <a:t>Лабораторная Информационн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6588000" y="463680"/>
            <a:ext cx="2016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564000" y="1366920"/>
            <a:ext cx="2547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Линте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895400" y="1052640"/>
            <a:ext cx="6372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ограммно – аппаратный комплек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5" descr="ответ"/>
          <p:cNvPicPr/>
          <p:nvPr/>
        </p:nvPicPr>
        <p:blipFill>
          <a:blip r:embed="rId2"/>
          <a:stretch/>
        </p:blipFill>
        <p:spPr>
          <a:xfrm>
            <a:off x="0" y="2997360"/>
            <a:ext cx="1979640" cy="1969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5219640" y="2473200"/>
            <a:ext cx="36370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Monotype Corsiva"/>
              </a:rPr>
              <a:t>Подсистема </a:t>
            </a:r>
            <a:br>
              <a:rPr sz="2800"/>
            </a:br>
            <a:r>
              <a:rPr b="0" lang="ru-RU" sz="2800" spc="-1" strike="noStrike">
                <a:solidFill>
                  <a:srgbClr val="ff6600"/>
                </a:solidFill>
                <a:latin typeface="Monotype Corsiva"/>
              </a:rPr>
              <a:t>беспроводного интерфей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result_view"/>
          <p:cNvPicPr/>
          <p:nvPr/>
        </p:nvPicPr>
        <p:blipFill>
          <a:blip r:embed="rId3"/>
          <a:stretch/>
        </p:blipFill>
        <p:spPr>
          <a:xfrm>
            <a:off x="2484360" y="3573360"/>
            <a:ext cx="3456000" cy="2460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4"/>
          <a:stretch/>
        </p:blipFill>
        <p:spPr>
          <a:xfrm>
            <a:off x="4573440" y="3801960"/>
            <a:ext cx="3456000" cy="2436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7"/>
          <p:cNvSpPr/>
          <p:nvPr/>
        </p:nvSpPr>
        <p:spPr>
          <a:xfrm>
            <a:off x="5003640" y="2421000"/>
            <a:ext cx="648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6600"/>
                </a:solidFill>
                <a:latin typeface="Monotype Corsiva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5869080" y="6356520"/>
            <a:ext cx="32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ужба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8 (347)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84-35-90,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233-02-88,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ms@bashnxa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200"/>
                            </p:stCondLst>
                            <p:childTnLst>
                              <p:par>
                                <p:cTn id="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200"/>
                            </p:stCondLst>
                            <p:childTnLst>
                              <p:par>
                                <p:cTn id="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31640" y="1196640"/>
            <a:ext cx="3529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озмо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33200" y="3931920"/>
            <a:ext cx="519444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Единое информационное простран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Безопасность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Работа с нескольких рабочих ме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Стандартный документообор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Печатные и электронные отчетные фор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onotype Corsiva"/>
              </a:rPr>
              <a:t>Статистика и аналит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2195640" y="2011320"/>
            <a:ext cx="5832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Лабораторной информационн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070080" y="2602080"/>
            <a:ext cx="3743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Линте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6238800" y="2579760"/>
            <a:ext cx="68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0"/>
          <p:cNvSpPr/>
          <p:nvPr/>
        </p:nvSpPr>
        <p:spPr>
          <a:xfrm>
            <a:off x="5869080" y="6356520"/>
            <a:ext cx="32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ужба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8 (347)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84-35-90,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233-02-88,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ms@bashnxa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360" y="980640"/>
            <a:ext cx="4259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1"/>
          <p:cNvGraphicFramePr/>
          <p:nvPr/>
        </p:nvGraphicFramePr>
        <p:xfrm>
          <a:off x="2411280" y="2349360"/>
          <a:ext cx="438120" cy="47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2349360"/>
                    <a:ext cx="4381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13"/>
          <p:cNvGraphicFramePr/>
          <p:nvPr/>
        </p:nvGraphicFramePr>
        <p:xfrm>
          <a:off x="2627280" y="5084640"/>
          <a:ext cx="45720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27280" y="5084640"/>
                    <a:ext cx="45720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5"/>
          <p:cNvGraphicFramePr/>
          <p:nvPr/>
        </p:nvGraphicFramePr>
        <p:xfrm>
          <a:off x="1835280" y="5661000"/>
          <a:ext cx="476280" cy="447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9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35280" y="5661000"/>
                    <a:ext cx="47628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17"/>
          <p:cNvGraphicFramePr/>
          <p:nvPr/>
        </p:nvGraphicFramePr>
        <p:xfrm>
          <a:off x="3059280" y="2852640"/>
          <a:ext cx="43812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" name="Object 1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59280" y="2852640"/>
                    <a:ext cx="438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9"/>
          <p:cNvGraphicFramePr/>
          <p:nvPr/>
        </p:nvGraphicFramePr>
        <p:xfrm>
          <a:off x="3203640" y="4365720"/>
          <a:ext cx="485640" cy="476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3" name="Object 1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03640" y="4365720"/>
                    <a:ext cx="4856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20"/>
          <p:cNvGraphicFramePr/>
          <p:nvPr/>
        </p:nvGraphicFramePr>
        <p:xfrm>
          <a:off x="3303720" y="3619440"/>
          <a:ext cx="476280" cy="457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5" name="Object 2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303720" y="3619440"/>
                    <a:ext cx="4762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21"/>
          <p:cNvGraphicFramePr/>
          <p:nvPr/>
        </p:nvGraphicFramePr>
        <p:xfrm>
          <a:off x="1476360" y="1700280"/>
          <a:ext cx="863640" cy="828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7" name="Object 2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476360" y="1700280"/>
                    <a:ext cx="86364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Rectangle 23"/>
          <p:cNvSpPr/>
          <p:nvPr/>
        </p:nvSpPr>
        <p:spPr>
          <a:xfrm>
            <a:off x="5381640" y="463680"/>
            <a:ext cx="3714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ули Л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1582920" y="1773360"/>
            <a:ext cx="578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Подсистема беспроводного интерфейса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5"/>
          <p:cNvSpPr/>
          <p:nvPr/>
        </p:nvSpPr>
        <p:spPr>
          <a:xfrm>
            <a:off x="2559600" y="2276640"/>
            <a:ext cx="351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Управление образцами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6"/>
          <p:cNvSpPr/>
          <p:nvPr/>
        </p:nvSpPr>
        <p:spPr>
          <a:xfrm>
            <a:off x="2921760" y="5157720"/>
            <a:ext cx="385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Управление материалами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"/>
          <p:cNvSpPr/>
          <p:nvPr/>
        </p:nvSpPr>
        <p:spPr>
          <a:xfrm>
            <a:off x="3824640" y="3649680"/>
            <a:ext cx="22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Оборудование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8"/>
          <p:cNvSpPr/>
          <p:nvPr/>
        </p:nvSpPr>
        <p:spPr>
          <a:xfrm>
            <a:off x="1865520" y="5734080"/>
            <a:ext cx="602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Нормативно – техническая документация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9"/>
          <p:cNvSpPr/>
          <p:nvPr/>
        </p:nvSpPr>
        <p:spPr>
          <a:xfrm>
            <a:off x="3298320" y="2852640"/>
            <a:ext cx="311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Общие справочники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0"/>
          <p:cNvSpPr/>
          <p:nvPr/>
        </p:nvSpPr>
        <p:spPr>
          <a:xfrm>
            <a:off x="3848400" y="4441680"/>
            <a:ext cx="1774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Статистика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1" descr="Линтел2"/>
          <p:cNvPicPr/>
          <p:nvPr/>
        </p:nvPicPr>
        <p:blipFill>
          <a:blip r:embed="rId16"/>
          <a:stretch/>
        </p:blipFill>
        <p:spPr>
          <a:xfrm>
            <a:off x="900000" y="3213000"/>
            <a:ext cx="1447920" cy="14572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0"/>
          <p:cNvSpPr/>
          <p:nvPr/>
        </p:nvSpPr>
        <p:spPr>
          <a:xfrm>
            <a:off x="5869080" y="6356520"/>
            <a:ext cx="32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ужба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8 (347)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84-35-90,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233-02-88,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ms@bashnxa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7000"/>
                            </p:stCondLst>
                            <p:childTnLst>
                              <p:par>
                                <p:cTn id="2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8000"/>
                            </p:stCondLst>
                            <p:childTnLst>
                              <p:par>
                                <p:cTn id="2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9000"/>
                            </p:stCondLst>
                            <p:childTnLst>
                              <p:par>
                                <p:cTn id="2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9"/>
          <p:cNvSpPr/>
          <p:nvPr/>
        </p:nvSpPr>
        <p:spPr>
          <a:xfrm>
            <a:off x="2195640" y="112536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дсистема беспроводного интерфей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8" descr="Схема"/>
          <p:cNvPicPr/>
          <p:nvPr/>
        </p:nvPicPr>
        <p:blipFill>
          <a:blip r:embed="rId2"/>
          <a:stretch/>
        </p:blipFill>
        <p:spPr>
          <a:xfrm>
            <a:off x="2843280" y="1700280"/>
            <a:ext cx="4857840" cy="4562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5094360"/>
            <a:ext cx="4537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Monotype Corsiva"/>
              </a:rPr>
              <a:t>Сбор и обработка результатов лабораторных испытаний, полученных по беспроводному радиоканалу связ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ff66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20"/>
          <p:cNvGraphicFramePr/>
          <p:nvPr/>
        </p:nvGraphicFramePr>
        <p:xfrm>
          <a:off x="1619280" y="1052640"/>
          <a:ext cx="647640" cy="62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1052640"/>
                    <a:ext cx="647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20"/>
          <p:cNvSpPr/>
          <p:nvPr/>
        </p:nvSpPr>
        <p:spPr>
          <a:xfrm>
            <a:off x="5869080" y="6356520"/>
            <a:ext cx="32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ужба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8 (347)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84-35-90,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233-02-88,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ms@bashnxa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195640" y="112536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дсистема беспроводного интерфей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Подсистема2"/>
          <p:cNvPicPr/>
          <p:nvPr/>
        </p:nvPicPr>
        <p:blipFill>
          <a:blip r:embed="rId2"/>
          <a:stretch/>
        </p:blipFill>
        <p:spPr>
          <a:xfrm>
            <a:off x="252360" y="1989000"/>
            <a:ext cx="4464000" cy="42483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5381640" y="463680"/>
            <a:ext cx="3714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нические д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967280" y="1377360"/>
            <a:ext cx="3997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Максимальная дальность связи в помещении – до 100 метр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Стандарт передачи информации - ZigBee/IEEE 802.15.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Автоматическое создание и настройка се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Автоматическое восстановление сети при сбоя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Возможность подключения до 65000 лабораторных аппаратов в единую сеть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7"/>
          <p:cNvGraphicFramePr/>
          <p:nvPr/>
        </p:nvGraphicFramePr>
        <p:xfrm>
          <a:off x="1619280" y="1006560"/>
          <a:ext cx="647640" cy="62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1006560"/>
                    <a:ext cx="647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20"/>
          <p:cNvSpPr/>
          <p:nvPr/>
        </p:nvSpPr>
        <p:spPr>
          <a:xfrm>
            <a:off x="5869080" y="6356520"/>
            <a:ext cx="32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ужба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8 (347)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84-35-90,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233-02-88,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ms@bashnxa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2266920" y="112536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дсистема беспроводного интерфей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6235560" y="463680"/>
            <a:ext cx="2556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5003640" y="429480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Поиск, сортировка результатов испытания по заданным критерия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result1"/>
          <p:cNvPicPr/>
          <p:nvPr/>
        </p:nvPicPr>
        <p:blipFill>
          <a:blip r:embed="rId2"/>
          <a:stretch/>
        </p:blipFill>
        <p:spPr>
          <a:xfrm>
            <a:off x="395280" y="2060640"/>
            <a:ext cx="2813040" cy="2344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result_view"/>
          <p:cNvPicPr/>
          <p:nvPr/>
        </p:nvPicPr>
        <p:blipFill>
          <a:blip r:embed="rId3"/>
          <a:stretch/>
        </p:blipFill>
        <p:spPr>
          <a:xfrm>
            <a:off x="971640" y="2565360"/>
            <a:ext cx="2813040" cy="2344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1_report1"/>
          <p:cNvPicPr/>
          <p:nvPr/>
        </p:nvPicPr>
        <p:blipFill>
          <a:blip r:embed="rId4"/>
          <a:stretch/>
        </p:blipFill>
        <p:spPr>
          <a:xfrm>
            <a:off x="250920" y="3284640"/>
            <a:ext cx="4173480" cy="2279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1_report3"/>
          <p:cNvPicPr/>
          <p:nvPr/>
        </p:nvPicPr>
        <p:blipFill>
          <a:blip r:embed="rId5"/>
          <a:stretch/>
        </p:blipFill>
        <p:spPr>
          <a:xfrm>
            <a:off x="1116000" y="4365720"/>
            <a:ext cx="3444840" cy="1616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report1"/>
          <p:cNvPicPr/>
          <p:nvPr/>
        </p:nvPicPr>
        <p:blipFill>
          <a:blip r:embed="rId6"/>
          <a:stretch/>
        </p:blipFill>
        <p:spPr>
          <a:xfrm>
            <a:off x="3276720" y="3141720"/>
            <a:ext cx="1717560" cy="26956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5"/>
          <p:cNvSpPr/>
          <p:nvPr/>
        </p:nvSpPr>
        <p:spPr>
          <a:xfrm>
            <a:off x="5003640" y="1754280"/>
            <a:ext cx="388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•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Формирование единой базы данных по результатам лабораторных испытаний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5003640" y="2840040"/>
            <a:ext cx="314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Представление отчетов по испытания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5003640" y="3573360"/>
            <a:ext cx="38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Представление результатов испытания в виде графи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5003640" y="5300640"/>
            <a:ext cx="38242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ff6600"/>
                </a:solidFill>
                <a:latin typeface="Monotype Corsiva"/>
              </a:rPr>
              <a:t>Автоматизированный сбор и обработка результатов лабораторных испыта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19"/>
          <p:cNvGraphicFramePr/>
          <p:nvPr/>
        </p:nvGraphicFramePr>
        <p:xfrm>
          <a:off x="1619280" y="1006560"/>
          <a:ext cx="647640" cy="62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9280" y="1006560"/>
                    <a:ext cx="647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20"/>
          <p:cNvSpPr/>
          <p:nvPr/>
        </p:nvSpPr>
        <p:spPr>
          <a:xfrm>
            <a:off x="5869080" y="6356520"/>
            <a:ext cx="32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ужба под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8 (347)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84-35-90,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233-02-88,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ms@bashnxa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8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"/>
          <p:cNvPicPr/>
          <p:nvPr/>
        </p:nvPicPr>
        <p:blipFill>
          <a:blip r:embed="rId1"/>
          <a:stretch/>
        </p:blipFill>
        <p:spPr>
          <a:xfrm>
            <a:off x="2892600" y="2571840"/>
            <a:ext cx="1071360" cy="2143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71280" y="2244600"/>
            <a:ext cx="2500560" cy="2398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3"/>
          <a:stretch/>
        </p:blipFill>
        <p:spPr>
          <a:xfrm>
            <a:off x="2071800" y="4714920"/>
            <a:ext cx="2500200" cy="2009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4"/>
          <a:stretch/>
        </p:blipFill>
        <p:spPr>
          <a:xfrm>
            <a:off x="5143680" y="3214800"/>
            <a:ext cx="3862080" cy="3537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5"/>
          <a:stretch/>
        </p:blipFill>
        <p:spPr>
          <a:xfrm>
            <a:off x="3286080" y="500040"/>
            <a:ext cx="2500200" cy="20858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"/>
          <p:cNvSpPr/>
          <p:nvPr/>
        </p:nvSpPr>
        <p:spPr>
          <a:xfrm>
            <a:off x="6683400" y="1125360"/>
            <a:ext cx="253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хема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«Линтел ЛИ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распределенной с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ject 7" descr=""/>
          <p:cNvPicPr/>
          <p:nvPr/>
        </p:nvPicPr>
        <p:blipFill>
          <a:blip r:embed="rId6"/>
          <a:stretch/>
        </p:blipFill>
        <p:spPr>
          <a:xfrm>
            <a:off x="3224160" y="4286160"/>
            <a:ext cx="1347840" cy="426960"/>
          </a:xfrm>
          <a:prstGeom prst="rect">
            <a:avLst/>
          </a:prstGeom>
          <a:ln w="0">
            <a:noFill/>
          </a:ln>
        </p:spPr>
      </p:pic>
      <p:pic>
        <p:nvPicPr>
          <p:cNvPr id="133" name="Object 8" descr=""/>
          <p:cNvPicPr/>
          <p:nvPr/>
        </p:nvPicPr>
        <p:blipFill>
          <a:blip r:embed="rId7"/>
          <a:stretch/>
        </p:blipFill>
        <p:spPr>
          <a:xfrm>
            <a:off x="4637160" y="5214960"/>
            <a:ext cx="434880" cy="646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8"/>
          <a:stretch/>
        </p:blipFill>
        <p:spPr>
          <a:xfrm>
            <a:off x="2571840" y="2500200"/>
            <a:ext cx="714240" cy="677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"/>
          <p:cNvPicPr/>
          <p:nvPr/>
        </p:nvPicPr>
        <p:blipFill>
          <a:blip r:embed="rId9"/>
          <a:stretch/>
        </p:blipFill>
        <p:spPr>
          <a:xfrm>
            <a:off x="5715000" y="2571840"/>
            <a:ext cx="857160" cy="1038240"/>
          </a:xfrm>
          <a:prstGeom prst="rect">
            <a:avLst/>
          </a:prstGeom>
          <a:ln w="0">
            <a:noFill/>
          </a:ln>
        </p:spPr>
      </p:pic>
      <p:pic>
        <p:nvPicPr>
          <p:cNvPr id="136" name="Object 12" descr=""/>
          <p:cNvPicPr/>
          <p:nvPr/>
        </p:nvPicPr>
        <p:blipFill>
          <a:blip r:embed="rId10"/>
          <a:stretch/>
        </p:blipFill>
        <p:spPr>
          <a:xfrm>
            <a:off x="3643200" y="3214800"/>
            <a:ext cx="120492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08:34:31Z</dcterms:created>
  <dc:creator>tsiber</dc:creator>
  <dc:description/>
  <dc:language>en-US</dc:language>
  <cp:lastModifiedBy>Руслан Р. Шириев</cp:lastModifiedBy>
  <dcterms:modified xsi:type="dcterms:W3CDTF">2012-03-28T05:32:41Z</dcterms:modified>
  <cp:revision>92</cp:revision>
  <dc:subject/>
  <dc:title>Лабораторная информационная система</dc:title>
</cp:coreProperties>
</file>